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74C-3E73-4E69-997A-485D248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435-4DAD-435E-B82C-2637CA54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CF7-9252-466A-ACCD-C88FD15B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94-FA5B-4668-9F54-E4A2D04E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401-99C3-4650-B7FF-BB74501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046-D7C1-463E-B4BB-77E6511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CDB-0A4A-4AB2-8D6B-A414128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30E-D09C-4BB7-87C2-58B01B78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1AA-6EBC-4C4D-9F54-7CCC092B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005-3D6B-417F-8B85-D8DFBE6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3CA-088C-419F-B6C7-6A4AA99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A52-6045-460F-883D-5B402A8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489-999B-4E08-81DF-1A8EF746C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all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and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pel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on Fl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n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e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it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g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b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Shi Huang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ng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k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a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n/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 the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8280" y="11426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in China; used in t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greatest teacher/philoso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s led by Zhuang He; explored 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-servant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silt in the Yellow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r class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s are appointed by the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based on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ers from the northern part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I-Ching; told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eror; began building the Grea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y where much of Chinese culture wa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route from Venice to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 that seeks balance; symbol is Yin-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mythical dynasty of Ancient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o show balance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eror that controlled the floods of Yellow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5:44:02Z</dcterms:created>
  <dc:creator>chris.williams</dc:creator>
  <dc:description/>
  <dc:language>en-US</dc:language>
  <cp:lastModifiedBy>chris.williams</cp:lastModifiedBy>
  <dcterms:modified xsi:type="dcterms:W3CDTF">2010-10-28T16:10:50Z</dcterms:modified>
  <cp:revision>2</cp:revision>
  <dc:subject/>
  <dc:title>China and Japan</dc:title>
</cp:coreProperties>
</file>